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3E1-B7C1-4499-A464-67609BB7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60C-2BF9-435A-BCCA-14CD93D7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6B507-085F-4A15-879D-433288A1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0C75F-633F-48B4-8DCC-7CA67B54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28063-704A-444D-BC9B-E7A4B455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4FB9C-ABD6-415C-9BF3-C95FEC3A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A70F5-BA64-4CAF-89DF-37CC0A77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39EB0-9915-46E7-8F14-47F2B5AA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EB37E-0C96-4B47-830F-45645A8F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2A164-0261-454D-81F5-79AEF5BA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B15F7-C695-48B0-B0B9-AA47057A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75E4D-E569-446A-9A83-C7786697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0A2-3CA9-4DD4-8EEF-E0F77BD1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C23B4-79D7-4B93-91BC-A5FF3F75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F608F-F71F-482A-89DB-9B7D6A7B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E8936-FB61-4E0E-A50A-DA020FDE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5857B-0A12-4DB8-A785-5C78E256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53FE5-0D75-4BB3-811C-9D9824DB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8572E-3ED0-4C05-A33E-97099FBB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17F11-C4D3-4669-A99B-75A254F2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5A256-B97C-490B-B15E-1DA064BD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66106-247A-4EB8-9A9B-9FE453B0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5F815-B656-4E42-A250-4B1D8536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951-14A4-4BE2-9631-0BCBD987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93A74-4389-479F-8E46-B502125A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592A7-893E-4D1E-ADB8-B4C8B3E4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0819E-9055-4BF3-8813-C15C8BD8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6FA3E-0124-4244-9EC4-AF355B59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3994C-20B9-4601-9D5B-2FE9A8F5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E3E2D-3530-421B-9CE7-1B87FD8D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3EF44-4BF5-4331-AFCE-58BBF6E5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806BB-D7AA-48D7-9079-04DB83B1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0AD35-AB02-450F-A0D9-7568BA31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80FD2-C185-40B9-BDFD-D112B9AE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E85F-966C-4EAD-B246-82185C76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F1E7A-E2E2-4730-8479-EBA6B89C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F5B02-8BB0-46EF-9B83-D64F5724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AE14B-3374-43C6-99FC-CB2DBFA0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D837D-7CC9-4A70-BD63-6F3AB0A5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71441-9FDB-4BD8-A125-74C00336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8590C-BC4B-4FB1-8E2C-863CDE8D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0D05C-9284-4531-A64F-1EB7189C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171E6-C388-4D61-9C5B-96815BEA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FB438-ED2B-479B-9B6D-D27F3E18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39673-1641-48E9-9BA7-62BD7524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B43A-8B55-40CC-9A46-47B21807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5C69A-7178-4189-A87B-8E9EB8C8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4AB2B-E6FB-4E26-883E-261E9A29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8487D-F26E-4A09-92CC-D39E8D6A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3CE81-DFF6-4B05-AED2-248F6AB2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D225E-C3B6-48B9-81A8-ADBD6664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7E268-0A50-434A-9EAB-C2E120B3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E3F48-AA1E-4C0F-BEED-B31B6AC0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1AF5E8-581E-4E30-B2DB-DB3DF3D8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167F7-2C18-444A-84D0-26801D0D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1422E-CE8B-4774-A912-1DEBB2A1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5EAA-CAC8-4CAD-BD4D-67E28F9A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D0187-81E9-46E2-886D-7610A9C6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5F40A-C0B8-499B-BF95-3628BCF3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81461-79A7-4E9F-9D47-D02820AB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EB519-798C-4562-B15F-8785D48C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EE5C6-2D2D-466D-9630-AE043B37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DF6EE-C165-48C2-9C6A-5EB45CEB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A724D-AD17-45BA-AB2A-6998445E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994FEA-499C-4DE8-8409-167940FB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FE068-27DD-4408-AC23-79C23C24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08094-28C6-4FE3-8635-D4FA3352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8018-C766-4DD0-B3CC-C0CB7A23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ED40D-B13F-45F7-9307-42B78B04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60B260-A6A0-46C1-9AF7-F917D141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47B9DB-62B4-44CE-99CC-CF236106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28B74-D359-4852-B7B3-8B8E565B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EFDCE-AAE6-491E-AFBE-7F55FF72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37761E-4E3E-4798-9AE6-C63D31D5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0EEA08-9241-4F0B-B35C-1F121B33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DF2F5-C82E-4E61-8844-AA383C4B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3A2A05-38BD-4790-A14E-401E1963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746B85-DCB8-4B90-8211-BC20A71F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E4A5-BE6F-4308-A4DC-56B7A96A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7A63E6-07CA-4C39-AC41-F422819A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2BA5D-9DA4-4375-B0FE-A32D7DFC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2C5F03-1F12-4620-A74A-E9B03C6C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29E4F3-B548-4F22-B147-9CF0F617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1F900A-3C11-4701-AE7F-A123DCBB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741F70-80A4-4985-8A43-6626D409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F6D50D-41B5-4018-98B0-F3D86C42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B69164-BE12-413F-941C-B1BF8D46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B9560F-CDE7-4252-948D-BC0ACBDF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65F14-9876-4CED-BDEC-811FE8A0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017B-0F10-4D20-A301-69336F1D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C976E7-E0BA-4FE9-9786-D9430953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FD7F8-F4EB-4D2E-B3DB-D2F8E12A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BDE091-C3F5-43AE-9F48-C0EEC69F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D568C3-ADDF-4A72-8A50-1C9C2D47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BA6DD9-F9C7-4569-BD3E-E0F412F3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508D3D-5001-49D5-A3A8-86D46F39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3278C3-0256-4FB5-BB19-D47F67C0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3B525B-6F57-4D82-9369-8C6BD7EC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78A9B0-7D54-437D-85DD-AE64A673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CEF83-E7DD-42F6-B9DB-49214C12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AE9D-7CE1-475D-B615-2988A65B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9E20ED-80F1-42BA-A2F7-EDFFCA1F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5D0C02-4951-4EA7-A067-44FFCC03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F12E77-5E53-456B-84FA-3947473B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36B411-0F1E-4824-AE8E-6BC45642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A66EA0-53C1-4334-8355-4A713CFD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4F20C0-D4A7-4DD0-9092-17E2C355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AA34FC-D250-48D4-85AB-1C52E2D3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6F008D-12AC-41AC-9D09-4890F59F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0606AA-C9FA-48E1-9286-F70B8BE2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861F36-44BB-46AE-B3CD-C50F235E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6D3-9606-4D24-B273-46DC0C02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A6DE-6DF8-43D2-954C-739ECAAB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74DBA3-C618-4E32-B26F-A6DD741D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AA0ACC-8700-4304-9448-C81C8188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809BC0-A2E9-4954-87F3-17023B46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B6DB7B-FBC9-4D5C-9D5C-621C5658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A8E16-0F2D-4B4D-B533-FC602D23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067CA0-4C00-4263-BF76-538F6BEC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9C4947-B2E9-4832-92FD-2D4466C1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5DCECD-FE36-4CBE-B9E2-220F0168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CC9AA0-7BB5-44D2-B98C-62B2DAFC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BA677D-E67F-4464-B9B7-2A1DA2AB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8755-BB82-4714-AB00-C45E5BA4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FFB1D9-F953-44F5-A41C-691CEC10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23299C-B431-4E7A-ABA0-D460E226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724699-C2E0-456B-9A36-5213A03C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FB45EB-EF6C-4BF7-9FDF-6B4390DA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EB85B4-8BB4-471F-BD34-C66CF7E7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F5D808-F9D5-4B6A-B4FD-15029CAF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C4DD06-58E3-48F7-A33F-5F0BE3FA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5AB2EB-E47B-4A7E-8F7B-DE3F447B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C214C7-D0B2-4F2D-B5BF-DBD9E723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B4A35E-7185-4D9C-BFC5-96A868DC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6E32-AD8E-4C89-9F70-D01095A7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1DF30C-C722-47CC-8F65-C2613354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683B55-C4B3-4B45-88C8-627BAB44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720205-95B7-4820-8329-45A2F696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205F74-3814-4F27-A16B-37AB6FDE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FC0BFB-FDD1-437C-A8EE-70EDFDD1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C425A0-A19A-460C-8F38-0978A124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ED7D3A-F2B6-424D-B0B3-2985AF03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09907A-E167-437F-A359-74AD05E0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11EC66-F40A-4EA9-B166-45886470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8302DB-4E20-4B80-B8D7-4D44E044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E431-37E4-422F-927B-3DFBF701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47EA4F-D9D8-4D64-86A6-6924AF3A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73631E-DED0-4B31-AEB0-D004543C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8A2B0F-7455-4B3D-A2FE-7A11331C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A84F74-0EA2-4EA3-8817-641E2C6E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CA3557-3C37-495F-83DA-2E951F0C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F764E1-A811-4244-B378-5200F9F6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2873E1-C36A-4A30-AD51-263EBA7F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FC0B04-2412-4781-99EA-88C0FC5C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ED1DC0-6379-4B53-BAEF-B1440F06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730064-1D41-442A-AD66-F6E944DF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3D0F-F408-47E6-AEF5-F0FD568F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27DE4B-F691-4CC5-AC8F-417FF893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D5DFD0-3FC8-4BB6-A66A-EC940A6D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A46B9B-42A8-4F38-A27C-10F11E56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2043F9-985D-4E8F-B40A-61DF1F8E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DADA8B-269D-41D0-BA3A-394EC0FA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E3535A-BE78-496A-ADDE-7E4991D5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04A99D-061E-4214-88A6-939FA722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1F405F-DA92-4E77-873A-6A1A286B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4A2861-9655-47A6-9244-0ECA04DA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2D1699-C7E3-4E81-ABBD-3024659E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4BB7C-0FAD-4D71-9833-6FF13B4F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0F4AAB-6F7D-4A7B-966C-3E2436B3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304FDC-417F-4187-B64B-294339E2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8C5E4C-ACAB-4FAF-A51A-82BC4AA7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3E76C-7153-49BC-B330-0B975903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989CC-D9A8-4942-8852-95A16CB4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6D71A-84BA-48E9-BF26-4DC1682C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3FA7-F101-44FB-A4D2-42BC5F44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F90-4F2B-4E5A-A57E-EE2B222B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AE640-28DC-4A47-A6B9-BA629826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86AB-5630-4C8E-B51B-7F2B84CE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C07AE-2A10-4D33-956A-98325AF0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F46A5-EFFE-477A-82F4-58F9C502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E63CB-803E-4A7B-9A09-CF91C4E5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70EF7-5D34-4FEA-B79A-9FB7B93D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C2F5C-3076-4453-8433-F90A4980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E1D4A-E2CE-4091-A0A6-96A9D0CE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F7E74-B948-4F6F-8F89-C1E5F88E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6B266-93B8-43A1-9486-CE17BB81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3BC-5DCA-40F4-B4BE-B9F8CBFE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FEBB7-CFF1-44A0-A2D3-FC56F594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2DEB0-B978-4BE8-8EA6-1DD83F10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728E5-3BFC-4729-99FC-16FCD49D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73FB3-D06A-4905-A5D6-4F860467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2BD0E-6538-4759-A2EA-05654A51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9EFDA-8491-47C1-B009-F39BBF35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873ED-D8B9-4E09-928D-FA96AE75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EDF01-86FC-4BAB-9DF8-D9C6A24B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D27BB-8D07-4C05-901D-933B39E4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84332-B6C2-42C5-B891-E6B8B0D5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968-E98A-4E77-A32C-3A71FF90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3C341-84B7-41F3-B1BF-18E086AB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A8E90-1798-47FA-8249-CD242B13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EC5A1-C3F3-4A1A-9B00-CC71D353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8D3A7-8426-4478-B6FF-D1E4AA4B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6794F-8BAD-4987-888D-513BDF7D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79A6E-E2D0-4530-99ED-9C8763CA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CF08F-53AD-4849-B1A5-7054AD2F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C3457-E237-432D-937A-B5922ADF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136B9-6F82-4601-94AD-7E9B5C10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C8AE8-80B8-4E32-9A7A-B9DD5309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991-44E0-48CD-9A64-CBDCE1A9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F718E-5FC8-4C5C-AD16-D0C50CB2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45F99-CF0E-4CC0-9473-BC604032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AC9A8-08DA-4E67-BBF0-3D5DCDAA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00B5C-A807-48EB-B4CD-EA600BCC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6CC28-0672-47B5-B989-CDB4F49A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D3FE7-3181-49BE-9B13-9F661D95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DB1C9-1121-4920-867B-097B6425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10551-BAF2-47C2-B89B-FEB97249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9EC77-4D5D-4957-8F43-AE99463B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619B5-3AAD-4201-AA42-45689220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E7D-DAC2-4BF4-A04D-162B8331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A298A-B131-4514-9EDE-6ABB0551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324BB-E2E0-42DD-A411-45A1E069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71FFD-60C4-45FD-81F7-0A56DDAA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92B32-416F-40F5-8D00-EE4A7AB5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0B09F-C583-4137-94A9-D8A8A38D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91D0A-999E-45A9-B7EF-B8C14F67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2A766-A98B-4076-8809-2B0367A6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1B64B-7A17-41FC-863E-6B0BF7B0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BF2C5-60CA-46F4-BA28-9548D01E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8F98E-3748-4B9C-9D21-11637E05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586-236E-418A-B9DF-DDB1F42A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21697-41A0-4135-BC5C-AA727235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A6AD1-06D7-4106-9DE2-0CA5A718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079A7-8AAD-46E9-80CA-CDEF17AF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22196-6343-4ABC-834C-9991018C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EC6AB-7DA9-4BFA-A1E3-15B99EF2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5056C-1ABC-480E-AFB3-2BC57671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A88AD-972A-4B3F-8E05-62FE05A1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63C5A-B165-4775-8BF4-09507526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C68BB-030E-43ED-AC86-21CAF285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93F70-B4FA-465D-B12B-BC0B6978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AD3-08DE-4744-99C6-86149D3B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E88F7-EE11-46B9-A322-7C5B03F0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F6256-2C9E-421F-B9E2-AA7DA1AA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6B630-F04A-4629-9F60-65059E71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D8568-FE54-470D-B20A-E39FB2E2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6E1C4-B2BF-49BE-8124-E1C002E7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5D4FD-104D-4256-8CFE-42BF3FC1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329B5-FCBB-4AA8-A32C-7622AA96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2B3B7-A40A-4152-9EA2-E45DA7E7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3C8D5-C638-4E26-8F46-4048FCD4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ECF56-60D5-4C88-BCD6-E24351F0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9E24-CA1B-4E7D-A8D3-E1B1AF5E86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78A6-31B3-4FC1-B7E7-D281A0B0E4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E33D-DA73-4EBF-B83C-F897221F9D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B7B3-4787-4A03-9C8D-4B249163CB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5603-3F05-4C81-87D8-CC4394A9B3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45B5-F127-40DF-AFDD-679BEE486C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3181-1E4D-4895-857C-563C951FCC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1A9A-C0D8-468A-BFA8-AA25212F14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0130-62D0-4666-9FF4-6933D73390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C7DB-F717-4E4D-A699-38B4F04ED0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4C0E-9032-4E01-AA57-014B83A776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7E3C-C14C-4AE4-A5AA-CB425031BF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0B32-66FA-4F23-AE0E-2D031B9234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E201-C180-4E83-A45F-D0A3FD5611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169E-A551-4958-A2A1-ECFD924F2E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A6CA-99B0-4EA2-A651-E8D17B9934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0465-5CB6-4E2E-A3C3-71BEBF9A36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3015-B7E0-41BB-9E2A-1EEEF15AA4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4571-32DE-46FA-9007-125EA07B2A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673B-192F-498A-BB7C-9741CA0F32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3EDC-8B4F-4AC6-A7F0-E85AB7F6FA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B4ED-E0EC-44A2-A389-92DF1DF693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8C1A-0739-4E26-9312-84A407BB41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D2E8-FC5A-4362-94ED-4BDB01FCB5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25A9-3B8F-46F4-B461-330BA01CA5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6059-B0BE-4183-B68D-65CFE4AACE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45C3-926D-4D51-B91C-8C81745DBB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81F2-CF5E-4696-AF06-459D21795E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9869-686D-4FFB-A44D-991C9E8F48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BFA2-17E3-4D66-93F6-A0AD09605C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4CF7-AC7F-4D07-8377-28F53C87E4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44B8-122D-43A9-88DD-176311280C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7AF3-B40A-42D6-9FE6-6DD3709004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81A5-7BBA-49C3-BE57-FCC693EB92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BF8F-4C78-441C-940D-3EDD034669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AE26-24D5-486E-B4A7-2505FB9A39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B0BE-7B67-47D7-AC42-CC695CE05B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C0DB-E53C-4D42-A33B-FE25DC1EB4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8A62-22CA-4D30-BB05-BCE274D293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CA77-2383-4E4F-8476-EEB49764E8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433600" y="3176640"/>
            <a:ext cx="42768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52280" y="758880"/>
            <a:ext cx="8839440" cy="5838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524720" y="1960560"/>
            <a:ext cx="86364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692360" y="234936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525840" y="2736720"/>
            <a:ext cx="46044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138640" y="2755800"/>
            <a:ext cx="46044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020000" y="2736720"/>
            <a:ext cx="46044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625920" y="3141720"/>
            <a:ext cx="46044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283360" y="3141720"/>
            <a:ext cx="46008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155000" y="3141720"/>
            <a:ext cx="46008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2843280" y="4264200"/>
            <a:ext cx="865080" cy="101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4284720" y="4264200"/>
            <a:ext cx="865080" cy="101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6372360" y="4264200"/>
            <a:ext cx="865080" cy="101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468360" y="4653000"/>
            <a:ext cx="865080" cy="101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2268360" y="4653000"/>
            <a:ext cx="865440" cy="101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4643280" y="4653000"/>
            <a:ext cx="865440" cy="101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6804000" y="4653000"/>
            <a:ext cx="865080" cy="10152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60444" descr=""/>
          <p:cNvPicPr/>
          <p:nvPr/>
        </p:nvPicPr>
        <p:blipFill>
          <a:blip r:embed="rId17"/>
          <a:stretch/>
        </p:blipFill>
        <p:spPr>
          <a:xfrm>
            <a:off x="808200" y="5683320"/>
            <a:ext cx="1081080" cy="4046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880920" y="6265800"/>
            <a:ext cx="28764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60446" descr=""/>
          <p:cNvPicPr/>
          <p:nvPr/>
        </p:nvPicPr>
        <p:blipFill>
          <a:blip r:embed="rId19"/>
          <a:stretch/>
        </p:blipFill>
        <p:spPr>
          <a:xfrm>
            <a:off x="3851280" y="5684760"/>
            <a:ext cx="1081080" cy="4050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3924360" y="627552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60448" descr=""/>
          <p:cNvPicPr/>
          <p:nvPr/>
        </p:nvPicPr>
        <p:blipFill>
          <a:blip r:embed="rId21"/>
          <a:stretch/>
        </p:blipFill>
        <p:spPr>
          <a:xfrm>
            <a:off x="6948360" y="5670720"/>
            <a:ext cx="1081080" cy="4046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7020000" y="6275520"/>
            <a:ext cx="287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9410" descr=""/>
          <p:cNvPicPr/>
          <p:nvPr/>
        </p:nvPicPr>
        <p:blipFill>
          <a:blip r:embed="rId1"/>
          <a:stretch/>
        </p:blipFill>
        <p:spPr>
          <a:xfrm>
            <a:off x="433440" y="1724040"/>
            <a:ext cx="8277120" cy="340992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59411" descr=""/>
          <p:cNvPicPr/>
          <p:nvPr/>
        </p:nvPicPr>
        <p:blipFill>
          <a:blip r:embed="rId2"/>
          <a:stretch/>
        </p:blipFill>
        <p:spPr>
          <a:xfrm>
            <a:off x="1158840" y="2146320"/>
            <a:ext cx="1081080" cy="4046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1222200" y="2728800"/>
            <a:ext cx="28764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59413" descr=""/>
          <p:cNvPicPr/>
          <p:nvPr/>
        </p:nvPicPr>
        <p:blipFill>
          <a:blip r:embed="rId4"/>
          <a:stretch/>
        </p:blipFill>
        <p:spPr>
          <a:xfrm>
            <a:off x="4202280" y="2144880"/>
            <a:ext cx="1081080" cy="4046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4265640" y="27273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59415" descr=""/>
          <p:cNvPicPr/>
          <p:nvPr/>
        </p:nvPicPr>
        <p:blipFill>
          <a:blip r:embed="rId6"/>
          <a:stretch/>
        </p:blipFill>
        <p:spPr>
          <a:xfrm>
            <a:off x="7288200" y="2139840"/>
            <a:ext cx="1081080" cy="4050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7351560" y="2722680"/>
            <a:ext cx="28764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59417" descr=""/>
          <p:cNvPicPr/>
          <p:nvPr/>
        </p:nvPicPr>
        <p:blipFill>
          <a:blip r:embed="rId8"/>
          <a:stretch/>
        </p:blipFill>
        <p:spPr>
          <a:xfrm>
            <a:off x="1979640" y="4259160"/>
            <a:ext cx="390600" cy="428760"/>
          </a:xfrm>
          <a:prstGeom prst="rect">
            <a:avLst/>
          </a:prstGeom>
          <a:ln w="0">
            <a:noFill/>
          </a:ln>
        </p:spPr>
      </p:pic>
      <p:pic>
        <p:nvPicPr>
          <p:cNvPr id="952" name="图片 59418" descr=""/>
          <p:cNvPicPr/>
          <p:nvPr/>
        </p:nvPicPr>
        <p:blipFill>
          <a:blip r:embed="rId9"/>
          <a:stretch/>
        </p:blipFill>
        <p:spPr>
          <a:xfrm>
            <a:off x="6175440" y="4259160"/>
            <a:ext cx="390600" cy="42876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59419" descr=""/>
          <p:cNvPicPr/>
          <p:nvPr/>
        </p:nvPicPr>
        <p:blipFill>
          <a:blip r:embed="rId10"/>
          <a:stretch/>
        </p:blipFill>
        <p:spPr>
          <a:xfrm>
            <a:off x="2104920" y="4700520"/>
            <a:ext cx="390600" cy="42876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59420" descr=""/>
          <p:cNvPicPr/>
          <p:nvPr/>
        </p:nvPicPr>
        <p:blipFill>
          <a:blip r:embed="rId11"/>
          <a:stretch/>
        </p:blipFill>
        <p:spPr>
          <a:xfrm>
            <a:off x="6175440" y="4705200"/>
            <a:ext cx="3906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8373" descr=""/>
          <p:cNvPicPr/>
          <p:nvPr/>
        </p:nvPicPr>
        <p:blipFill>
          <a:blip r:embed="rId1"/>
          <a:stretch/>
        </p:blipFill>
        <p:spPr>
          <a:xfrm>
            <a:off x="600120" y="2119320"/>
            <a:ext cx="7943760" cy="26193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1547640" y="3284640"/>
            <a:ext cx="287640" cy="2570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2022480" y="388944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2268360" y="4340160"/>
            <a:ext cx="1943280" cy="2574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6046920" y="328464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5580000" y="389880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7"/>
          <a:stretch/>
        </p:blipFill>
        <p:spPr>
          <a:xfrm>
            <a:off x="6300720" y="4340160"/>
            <a:ext cx="201636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43:36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